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0950-FB61-46A9-95CE-2F730F85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D626-9EDC-4C66-84A2-9F9858FA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5A19-307C-4C90-99EA-E10B1FDC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37E5-459A-4639-B0EB-7B91BB6B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3B76-DE2F-4D67-9718-EBC1D7B0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559C-437B-4964-83D8-F8C2006C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58E3-24ED-4899-8980-C44F30E7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5347-230D-486D-8701-389A5906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C584-9641-4744-9D35-02535344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F699-A10A-4E83-B164-73FF66E3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82EC-F149-4538-8EB4-A424E030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4E6C-B2CA-4096-823C-37863F5E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D049-42A7-4233-A466-CA63DBA53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localhost/admin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Clicker System by Poc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WebBrowser1"/>
          <p:cNvGraphicFramePr/>
          <p:nvPr/>
        </p:nvGraphicFramePr>
        <p:xfrm>
          <a:off x="609480" y="990720"/>
          <a:ext cx="815364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WebBrows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90720"/>
                    <a:ext cx="8153640" cy="5333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Clicker System by Poc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31440" y="2743200"/>
            <a:ext cx="18266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ここで質問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3T00:47:24Z</dcterms:created>
  <dc:creator>hs</dc:creator>
  <dc:description/>
  <dc:language>en-US</dc:language>
  <cp:lastModifiedBy>hs</cp:lastModifiedBy>
  <dcterms:modified xsi:type="dcterms:W3CDTF">2016-02-23T00:58:1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